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0F0-7C10-4D15-8056-0488FF78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5E7-E5A6-452D-A8A7-3225B5BC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273-20D3-4381-814B-71A454B1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412-D035-42FD-AA85-68E1F41E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4C2-732B-46C7-AC84-5572AEA3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BE67-A8D2-4C4F-B811-11EC324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C09A-4E37-4E8B-B733-052793C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51C7-2DA1-4598-8438-29130082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76C2-4997-4816-84CB-8122FB2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26D9-FB62-4967-90A5-F181768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6E3-65D3-402F-B0A4-DFF3136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501-6C92-4D67-B2E7-658159DD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B41B-115C-49C3-AA34-D35BBA80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723-B537-4995-9B6B-3418DB9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84CF-4205-4D43-A584-D6C9BA21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0DB0-1ABF-480D-9EAA-D2251CE1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6718-38E5-45EB-B107-6395443D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627-F25C-42D4-BC4F-D7EF177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338-FBAC-461A-B8CE-FEC965A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9D-1841-44D3-A2DD-6E74AEEF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9F1-66B6-4260-9405-255C8AB9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7E2-4E47-4CEC-BE2D-8C162B5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105-8AFE-4A08-BBD0-3C639BE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3F9-912D-4974-98C7-63EF032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100000">
              <a:srgbClr val="a8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110-D2B3-4F2C-8595-E0A56A619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100000">
              <a:srgbClr val="a8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CCA-3363-4754-87AF-2100C9994C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Butler and Oberly</a:t>
            </a:r>
            <a:br>
              <a:rPr sz="5100"/>
            </a:b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News cast 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EST NEWS CAS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SP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aimyo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5" descr="ANd9GcTpTxC8XvL7F9Suv-BL-l6_8GaHt3AkA5NKsybCkrbgzCJZrFuBsA"/>
          <p:cNvPicPr/>
          <p:nvPr/>
        </p:nvPicPr>
        <p:blipFill>
          <a:blip r:embed="rId1"/>
          <a:stretch/>
        </p:blipFill>
        <p:spPr>
          <a:xfrm>
            <a:off x="2362320" y="838080"/>
            <a:ext cx="4495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amura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77760" y="46080"/>
            <a:ext cx="1114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7" descr="ANd9GcQ-PJGxCmVOm3s-n3PMP-NWb2HyG2vbrNsBQrgFdy57gUdgNXcu3Q"/>
          <p:cNvPicPr/>
          <p:nvPr/>
        </p:nvPicPr>
        <p:blipFill>
          <a:blip r:embed="rId1"/>
          <a:stretch/>
        </p:blipFill>
        <p:spPr>
          <a:xfrm>
            <a:off x="2133720" y="1219320"/>
            <a:ext cx="443844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apan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5" descr="Japan map."/>
          <p:cNvPicPr/>
          <p:nvPr/>
        </p:nvPicPr>
        <p:blipFill>
          <a:blip r:embed="rId1"/>
          <a:stretch/>
        </p:blipFill>
        <p:spPr>
          <a:xfrm>
            <a:off x="1295280" y="1066680"/>
            <a:ext cx="580896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panese Rising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5" descr="ANd9GcRGAXbHjnyrN8CcHByXk_yiZBPVN3RJmr_cscew-570GcHbpmxS0g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5027760"/>
          </a:xfrm>
          <a:prstGeom prst="rect">
            <a:avLst/>
          </a:prstGeom>
          <a:ln w="0">
            <a:noFill/>
          </a:ln>
        </p:spPr>
      </p:pic>
      <p:pic>
        <p:nvPicPr>
          <p:cNvPr id="346" name="MS910219243[1].wav" descr=""/>
          <p:cNvPicPr/>
          <p:nvPr/>
        </p:nvPicPr>
        <p:blipFill>
          <a:blip r:embed="rId2"/>
          <a:stretch/>
        </p:blipFill>
        <p:spPr>
          <a:xfrm>
            <a:off x="80773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shogunart.com/updates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japaneselifestyle.com.au/culture/samurai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wordtravels.com/Travelguide/Countries/Japan/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dailygalaxy.com/my_weblog/2007/10/a-new-tsuki-for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27:38Z</dcterms:created>
  <dc:creator>bbutka</dc:creator>
  <dc:description/>
  <dc:language>en-US</dc:language>
  <cp:lastModifiedBy>Owner</cp:lastModifiedBy>
  <dcterms:modified xsi:type="dcterms:W3CDTF">2011-05-23T13:59:58Z</dcterms:modified>
  <cp:revision>5</cp:revision>
  <dc:subject/>
  <dc:title>Butler and Oberly News cast </dc:title>
</cp:coreProperties>
</file>